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D77-8F5C-469F-B4D2-63A362FB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3BE-4172-490A-9515-E68B5A6C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F4E-EBE1-49BD-B6CF-07126BB9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6D0-DB1B-470A-B1D1-9EAE3C1C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344D-B8A9-4A15-91FA-BF306360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3741-4548-4CBB-888F-223C7CB8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D2C3-4D7A-400E-A4D3-44E00C2D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689D-363A-463B-8456-44021140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677C-CC0D-41FB-94FE-68F14733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55C6-5F71-4D03-A482-5EBE5180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45C3-6656-4169-9A3C-FF3C744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996-AF7F-4432-BCF3-4FDFF982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6E31-A95A-4D2C-ADA5-4825FE80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206A-02C4-4516-B449-E04E1660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C763-C0F2-425C-8B0B-4BC2FBAE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D866-BFCE-4379-B10A-CF8A349D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32A5-8A87-4CBC-BE08-4AA2E900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6B30-C519-4CF3-A05D-D682F282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9DE3-2CFD-41B6-9706-28816832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E1D2-1FFB-4E8B-9031-0F85E2F6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190C-A5C6-465A-BA7A-6A004B20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BD9CD-A363-42C7-BACD-6AFDC8EB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E37-3F10-4DFE-B40B-3C60CB3F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0508-70BD-42A8-ACA0-31230C8B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1CD5C-548D-4C0D-A70C-501C43B6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9E60-DACD-4AAF-996C-D501591A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41ABC-D896-4D75-B313-1F32E842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BAD6-C77B-4BB2-B009-B3B0CD0B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703F-604E-45D7-8C81-D40EA11B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42B0-0E62-455C-B02C-1DD034CB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7418-6DB2-4269-8DC1-1867FC5D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05667-4A73-4BBA-8E81-A8CD20A1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05E74-ED23-4023-A9C2-122E043F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B17-0D26-419B-8032-EF2523E4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8407-7275-44D1-9424-477940B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0BBE-CA16-4FFA-98FE-9252E65B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0D986-1762-483E-BA28-DE916CB7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A6B10-BB08-4BDA-8D0E-7CA4EEC2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119F1-A85E-4ECC-B109-A34BAF91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EDE45-B707-489F-A884-5AD967BC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B4D28-25E3-4B60-83DF-45E9B06B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06FA9-20E1-4CFC-A021-5D019C5D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7264-7609-4EB4-B63B-39D80FC3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60E-9A83-499A-BBC8-BF435DB8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1CC-9FC2-47F6-AEEA-A01CF4B2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957-712B-45B5-97CA-D8774F7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948-47CA-437A-A360-5D0959AE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EA2-B987-40AF-B976-43928E3A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847DB08-6E55-4E27-B156-74D846FC4D8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A5DB42F-6D34-432D-9AED-97A81B438E1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f3da8c"/>
                </a:solidFill>
                <a:latin typeface="Lucida Sans"/>
              </a:rPr>
              <a:t>Click to edit Master title sty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3007800" cy="460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 rtl="1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4EEA9A5-6355-425D-A7DC-F877DB14A52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D54EFC9-D184-45FF-BB1D-E3E4748C832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581600" cy="487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ff8a3b"/>
                </a:solidFill>
                <a:latin typeface="Comic Sans MS"/>
              </a:rPr>
              <a:t>New Farm Company for Marketing and Agricultural processing (NFC)</a:t>
            </a:r>
            <a:br>
              <a:rPr sz="3600"/>
            </a:br>
            <a:br>
              <a:rPr sz="3600"/>
            </a:br>
            <a:r>
              <a:rPr b="1" lang="en-US" sz="3600" spc="-1" strike="noStrike" cap="all">
                <a:solidFill>
                  <a:srgbClr val="ffff00"/>
                </a:solidFill>
                <a:latin typeface="Comic Sans MS"/>
              </a:rPr>
              <a:t>The role of cooperatives in opening new marketing channel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agriculture</a:t>
            </a: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sector working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9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cember 2011, 11:00 –12:3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inistry of Agricultur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4038120" cy="574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mote and market Palestinian produc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ionally, regionally and internationall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duce the problems of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cess produc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enhance the framers to diversify their crop productio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1" name="Content Placeholder 8" descr="IMG_0186.JPG"/>
          <p:cNvPicPr/>
          <p:nvPr/>
        </p:nvPicPr>
        <p:blipFill>
          <a:blip r:embed="rId1"/>
          <a:stretch/>
        </p:blipFill>
        <p:spPr>
          <a:xfrm>
            <a:off x="4952880" y="457200"/>
            <a:ext cx="3733560" cy="280008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30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13FB970-A7FC-4055-A15E-FBB53D9CEEE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9" descr="IMG_0591.JPG"/>
          <p:cNvPicPr/>
          <p:nvPr/>
        </p:nvPicPr>
        <p:blipFill>
          <a:blip r:embed="rId2"/>
          <a:stretch/>
        </p:blipFill>
        <p:spPr>
          <a:xfrm>
            <a:off x="4952880" y="3505320"/>
            <a:ext cx="3657240" cy="2742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391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Economic and financial advantage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48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ore production-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income is generated to the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ccessibility of rural products to marke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enhanc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rketing skill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31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73DB04A-FEAF-468D-BE4A-B5DBE151B31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695720" cy="5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ocial impact on the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085760"/>
            <a:ext cx="8724600" cy="539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hancement of cooperation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etween small farmers and existing cooperatives and women clubs in the rural communitie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Strengthening socioeconomic and  livelihoo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the small farmers and create job opportunities in the marginalized rural communiti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 the social responsibility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CBOs towards their communi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nhancing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ffective leader ship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d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ing the role of small and marginalized farmer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(male and female)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couraging young farmers to continue cultivating their land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ich assists in reducing the migration process from rural to urban center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3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A3E6B48-CF63-4EC9-91DC-EF00AD40102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3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Future avenues: Marketing challeng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2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High cost of production inpu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duce the competitivenes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ducts quality consistency and stabilit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easonality of production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instable availability of commodities and pric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usiness management and innova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reate new recipes, and reach feasible production syste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portation 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omparativeness and controlled borders by the Occup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7FCA285-DD03-4112-9097-6BBB81E61A3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3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800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Thank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Num" idx="3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78A6FCF-8484-4C8C-AB19-D05A2D7D2E1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3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4" descr="New Farm-logo.jpg"/>
          <p:cNvPicPr/>
          <p:nvPr/>
        </p:nvPicPr>
        <p:blipFill>
          <a:blip r:embed="rId1"/>
          <a:stretch/>
        </p:blipFill>
        <p:spPr>
          <a:xfrm>
            <a:off x="1828800" y="152280"/>
            <a:ext cx="5257440" cy="4290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Who we are</a:t>
            </a: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Farm Company was established in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200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s a private limited shareholding company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wned in total by its founders;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a group of socially conscious agricultural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 Peasants Union and two Palestinian non-governmental organizations dedicated for working in the fields of scientific research, social and economic agricultural developmen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hould be emphasized that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production cooperatives – especially rural women cooperatives are eligible for holding capital shares in the compan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EF1B1C3-6033-4CBC-A388-9B8650B164C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What is our business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281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FC's core business is food processing and marketing.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More specifically, NFC was established to offer the highest quality and value of traditional home-style foods produced by Palestinian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using local inputs and raw materials free of unsafe and unhealthy chemical ingredi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8E9415C-A087-4D5F-B3D1-2D55F9F5C78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6" descr="DSCF3700.JPG"/>
          <p:cNvPicPr/>
          <p:nvPr/>
        </p:nvPicPr>
        <p:blipFill>
          <a:blip r:embed="rId2"/>
          <a:stretch/>
        </p:blipFill>
        <p:spPr>
          <a:xfrm>
            <a:off x="2521080" y="3657600"/>
            <a:ext cx="4641480" cy="2514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076960" cy="335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FC answers the call of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knowledgeable consume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locally and internationally – who look for time-honored traditional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Palestinian recipes that are passed through generation, rich with heritage, authentic and real down home – style traditional food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Content Placeholder 8" descr="HPIM9553.JPG"/>
          <p:cNvPicPr/>
          <p:nvPr/>
        </p:nvPicPr>
        <p:blipFill>
          <a:blip r:embed="rId1"/>
          <a:stretch/>
        </p:blipFill>
        <p:spPr>
          <a:xfrm>
            <a:off x="2666880" y="3809880"/>
            <a:ext cx="3688920" cy="261432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3186518-CD1C-44AA-A0D8-E849C942E1A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Mission, Our values and Vis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's mission; Social responsibility and unwavering commitment to quality and safe product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virtue of the mandate of NFC founding organizations, </a:t>
            </a:r>
            <a:r>
              <a:rPr b="0" i="1" lang="en-US" sz="2400" spc="-1" strike="noStrike">
                <a:solidFill>
                  <a:srgbClr val="ffff00"/>
                </a:solidFill>
                <a:latin typeface="Book Antiqua"/>
              </a:rPr>
              <a:t>it works to promote economic and social development networks between NFC share-holders organization on one hand, and contributing to the agricultural and rural development in Palestine on the other hand.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rating on a commercial basis, NFC is committed to the principles of cooperative growth and economic empowerment of rural wom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 works with its shareholders and through them in pursuing tirelessly growth opportunities; while adhering to the highest ethical conduct in all of our business dealing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A98E2C3-DAB1-43DE-AD4A-3549E9A5F7C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5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4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ont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……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240" cy="326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1000"/>
          </a:bodyPr>
          <a:p>
            <a:pPr marL="498960" indent="-3744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strive to be known for our consistent high quality traditional food products, and business concept values.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Our consumers will distinguish our brands; come to love them, and recommend them to others; their reliability to, and satisfaction of, our products will be the key of our succe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2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2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F5C68505-53E1-4191-87EC-AAEB9EB464C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7" descr="HPIM9544.JPG"/>
          <p:cNvPicPr/>
          <p:nvPr/>
        </p:nvPicPr>
        <p:blipFill>
          <a:blip r:embed="rId2"/>
          <a:stretch/>
        </p:blipFill>
        <p:spPr>
          <a:xfrm>
            <a:off x="0" y="0"/>
            <a:ext cx="4038120" cy="302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12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customers will derive satisfaction from knowing that their purchasing of NFC products has helped a large sector of Palestinian indigenous farmers and rural women in sustaining their livelihoo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Content Placeholder 8" descr="HPIM9631.JPG"/>
          <p:cNvPicPr/>
          <p:nvPr/>
        </p:nvPicPr>
        <p:blipFill>
          <a:blip r:embed="rId1"/>
          <a:stretch/>
        </p:blipFill>
        <p:spPr>
          <a:xfrm>
            <a:off x="4724280" y="1981080"/>
            <a:ext cx="4120920" cy="3090600"/>
          </a:xfrm>
          <a:prstGeom prst="rect">
            <a:avLst/>
          </a:prstGeom>
          <a:ln w="9525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4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F43181A-4EC1-4341-86F8-57EAF437221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election of producer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240" cy="508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Agricultural cooperatives and women club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have a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ocial responsibility towards their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are ready to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articipate actively in developing the Palestinian rural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mall agro- productive group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o face problems in marketing (with main focus on women groups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ural producers who is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rotecting the Geographic Identit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f the Palestinian agro-products and food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2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2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6CE5FB1F-6CB0-4525-9AFB-85FBD9D5C2C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0064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hat is the role of the company: Added value and expertise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095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0000"/>
          </a:bodyPr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rove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ality of the Palestinian rural produc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match the national and international standa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 on minimizing production costs to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ximize farmer/cooperative profi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nhance the access of Palestinian consum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the locally made food with comparative pric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ign suitable packaging and labeling that reflects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uniqueness, culture and the nutritional value of the company and it related CBOs produc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288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4F01004-CA53-4FF9-9ECD-30ABEB2968B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2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208" name="Picture 6" descr="IMG_1584.JPG"/>
          <p:cNvPicPr/>
          <p:nvPr/>
        </p:nvPicPr>
        <p:blipFill>
          <a:blip r:embed="rId2"/>
          <a:stretch/>
        </p:blipFill>
        <p:spPr>
          <a:xfrm>
            <a:off x="6781680" y="3886200"/>
            <a:ext cx="1828440" cy="2437920"/>
          </a:xfrm>
          <a:prstGeom prst="rect">
            <a:avLst/>
          </a:prstGeom>
          <a:ln w="9525">
            <a:noFill/>
          </a:ln>
        </p:spPr>
      </p:pic>
      <p:pic>
        <p:nvPicPr>
          <p:cNvPr id="209" name="Picture 7" descr="IMG_0245.JPG"/>
          <p:cNvPicPr/>
          <p:nvPr/>
        </p:nvPicPr>
        <p:blipFill>
          <a:blip r:embed="rId3"/>
          <a:stretch/>
        </p:blipFill>
        <p:spPr>
          <a:xfrm>
            <a:off x="6093000" y="1295280"/>
            <a:ext cx="3050640" cy="219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018</TotalTime>
  <Application>LibreOffice/7.4.7.2$Linux_X86_64 LibreOffice_project/40$Build-2</Application>
  <AppVersion>15.0000</AppVersion>
  <Words>765</Words>
  <Paragraphs>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4:57:09Z</dcterms:created>
  <dc:creator>haitham</dc:creator>
  <dc:description/>
  <dc:language>en-US</dc:language>
  <cp:lastModifiedBy>haitham</cp:lastModifiedBy>
  <dcterms:modified xsi:type="dcterms:W3CDTF">2011-12-17T19:21:38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